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C7081C-43EC-4C7F-9AE2-89B11E9C71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33F17-A1E7-4792-9B5A-2067EFCB9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006747-BE3D-4FF4-89FE-3A622F4DC7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440222-898C-4BD5-9CAA-44D7C8A053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C5BE2-AD39-4F61-AB31-558BCA257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55493-7D6F-4615-B887-D00CF01C8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76AFC-7EFC-4480-92D0-6917CB2E0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F215D-15F4-4FF9-A3B2-2067FE432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13A3B-E8D3-43A4-A6E0-48A3BB339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63E87-284B-4B8A-83E0-A1DA9CFF1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C4BB4-0BED-45EB-B6F0-8C876ED34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D98AD-BE72-43B9-BF34-3A9782CCEF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D33B8-6DEE-4E81-A75F-8D9CD9884301}"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PELE CONTINENTALE</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Geografie fizică, clasa a IX-a</a:t>
            </a:r>
            <a:r>
              <a:rPr b="0" lang="ro-RO" sz="1000" spc="-1" strike="noStrike">
                <a:solidFill>
                  <a:srgbClr val="000000"/>
                </a:solidFill>
                <a:latin typeface="Arial"/>
              </a:rPr>
              <a:t>, Octavian Mândruţ)</a:t>
            </a:r>
            <a:r>
              <a:rPr b="0" lang="en-GB" sz="3200" spc="-1" strike="noStrike">
                <a:solidFill>
                  <a:srgbClr val="000000"/>
                </a:solidFill>
                <a:latin typeface="Arial"/>
              </a:rPr>
              <a:t> </a:t>
            </a:r>
            <a:endParaRPr b="0" lang="en-US" sz="3200" spc="-1" strike="noStrike">
              <a:solidFill>
                <a:srgbClr val="000000"/>
              </a:solidFill>
              <a:latin typeface="Calibri"/>
            </a:endParaRPr>
          </a:p>
        </p:txBody>
      </p:sp>
      <p:sp>
        <p:nvSpPr>
          <p:cNvPr id="43" name="Rectangle 1"/>
          <p:cNvSpPr/>
          <p:nvPr/>
        </p:nvSpPr>
        <p:spPr>
          <a:xfrm>
            <a:off x="214200" y="572400"/>
            <a:ext cx="795816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68000" y="764640"/>
            <a:ext cx="4390920" cy="575964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ele continentale cuprind apele din interiorul scoarţei terestre (apele subterane) şi cele de la suprafaţă (râuri, fluvii şi lacuri); de asemenea, solul cuprinde, în compoziţia sa, apă. Apele subterane se găsesc situate la diferite adâncimi şi se află situate deasupra unor strate impermeabile (sau greu permeabile), în interiorul unor straturi denumite, prin comparaţie, permeabile. Primul strat, pornind de la suprafaţa terenului, se numeşte strat freatic, iar cele situate mai jos, la adâncimi mai mari, se numesc straturi de adâncime (care cuprind ape de adâncime).</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ele subterane apar la suprafaţă sub forma izvoarelor. Izvoarele pot fi de mai multe feluri, în funcţie de caracteristicile apei subterane şi de modul în care aceasta ajunge la suprafaţă. Cele mai spectaculoase sunt gheizerele, care sunt datorate încălzirii apelor în adâncime; acestea ţâşnesc la suprafaţă intermitent (Fig. 1).  Alte izvoare apar în regiunile carstice, sub formă continuă sau intermitentă. În unele cazuri, apele de adâncime urcă sub formă arteziană (ape arteziene).</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giunile deşertice închise (îndeosebi Sahara şi deşerturile australiene) au ape de adâncime (situate uneori la adâncimi sub 1000 m în scoarţă), care reprezintă acumulările produse în urma precipitaţiilor bogate din timpul glaciaţiunii şi imediat după încheierea acesteia.</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ţeaua hidrografică de suprafaţă este formată din râuri şi fluvii. Râurile provin din însumarea mai multor pârâu</a:t>
            </a:r>
            <a:r>
              <a:rPr b="0" lang="en-GB" sz="1200" spc="-1" strike="noStrike">
                <a:solidFill>
                  <a:srgbClr val="000000"/>
                </a:solidFill>
                <a:latin typeface="Arial"/>
              </a:rPr>
              <a:t>ri,</a:t>
            </a:r>
            <a:r>
              <a:rPr b="0" lang="ro-RO" sz="1200" spc="-1" strike="noStrike">
                <a:solidFill>
                  <a:srgbClr val="000000"/>
                </a:solidFill>
                <a:latin typeface="Arial"/>
              </a:rPr>
              <a:t> (care sunt sistemele elementare ale reţelei hidrografice).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general, râurile sunt considerate arterele hidrografice mai mici şi fluviile mai mari, fără a exista între ele o limită cantitativă (de lungime sau debit de apă). </a:t>
            </a:r>
            <a:endParaRPr b="0" lang="en-US" sz="1200" spc="-1" strike="noStrike">
              <a:solidFill>
                <a:srgbClr val="000000"/>
              </a:solidFill>
              <a:latin typeface="Calibri"/>
            </a:endParaRPr>
          </a:p>
        </p:txBody>
      </p:sp>
      <p:sp>
        <p:nvSpPr>
          <p:cNvPr id="45" name="Rectangle 1"/>
          <p:cNvSpPr/>
          <p:nvPr/>
        </p:nvSpPr>
        <p:spPr>
          <a:xfrm>
            <a:off x="250920" y="313560"/>
            <a:ext cx="835344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pic>
        <p:nvPicPr>
          <p:cNvPr id="46" name="Picture 5" descr=""/>
          <p:cNvPicPr/>
          <p:nvPr/>
        </p:nvPicPr>
        <p:blipFill>
          <a:blip r:embed="rId1"/>
          <a:stretch/>
        </p:blipFill>
        <p:spPr>
          <a:xfrm>
            <a:off x="5000760" y="1428840"/>
            <a:ext cx="360036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68000" y="1341360"/>
            <a:ext cx="8218440" cy="5052960"/>
          </a:xfrm>
          <a:prstGeom prst="rect">
            <a:avLst/>
          </a:prstGeom>
          <a:noFill/>
          <a:ln w="0">
            <a:noFill/>
          </a:ln>
        </p:spPr>
        <p:txBody>
          <a:bodyPr anchor="t">
            <a:normAutofit/>
          </a:bodyPr>
          <a:p>
            <a:pPr lvl="2" marL="1371600" indent="-514440" algn="just">
              <a:lnSpc>
                <a:spcPct val="10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e glob există mai multe tipuri de regim hidrologic al râurilor, dependent de caracteristicile climatice ale fiecărei zone:</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gimul ecuatorial este constant, stabil şi ridicat tot timpul anului;</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gimul tropical cu două anotimpuri (musonic şi subecuatorial) prezintă un maxim în anotimpul ploios şi un minim în anotimpul secetos;</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gimul deşertic este intermitent şi episodic;</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gimul mediteranean se caracterizează prin debite mari iarna şi mici vara; </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gimul temperat este determinat de ritmicitatea precipitaţiilor şi de perioada de topire a zăpezilor;</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gimul polar este legat de oscilaţiile temperaturii.[...]</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curile sunt clasificate de obicei după originea depresiunii lacustre; principalele tipuri de lacuri sunt:</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curi tectonice (în depresiuni de origine tectonică) [...];</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curile glacia</a:t>
            </a:r>
            <a:r>
              <a:rPr b="0" lang="en-GB" sz="1200" spc="-1" strike="noStrike">
                <a:solidFill>
                  <a:srgbClr val="000000"/>
                </a:solidFill>
                <a:latin typeface="Arial"/>
              </a:rPr>
              <a:t>r</a:t>
            </a:r>
            <a:r>
              <a:rPr b="0" lang="ro-RO" sz="1200" spc="-1" strike="noStrike">
                <a:solidFill>
                  <a:srgbClr val="000000"/>
                </a:solidFill>
                <a:latin typeface="Arial"/>
              </a:rPr>
              <a:t>e (unde apa s-a adunat în depresiuni create de gheţari) [...]</a:t>
            </a:r>
            <a:r>
              <a:rPr b="0" lang="en-GB" sz="1200" spc="-1" strike="noStrike">
                <a:solidFill>
                  <a:srgbClr val="000000"/>
                </a:solidFill>
                <a:latin typeface="Arial"/>
              </a:rPr>
              <a:t>;</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curi relicte (unde apa provine din mări interioare care au ocupat întinderi considerabile, dar s-au diminuat foarte mult) [...</a:t>
            </a:r>
            <a:r>
              <a:rPr b="0" lang="en-GB" sz="1200" spc="-1" strike="noStrike">
                <a:solidFill>
                  <a:srgbClr val="000000"/>
                </a:solidFill>
                <a:latin typeface="Arial"/>
              </a:rPr>
              <a:t>]</a:t>
            </a:r>
            <a:r>
              <a:rPr b="0" lang="ro-RO" sz="1200" spc="-1" strike="noStrike">
                <a:solidFill>
                  <a:srgbClr val="000000"/>
                </a:solidFill>
                <a:latin typeface="Arial"/>
              </a:rPr>
              <a:t>;</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istă, de asemenea, alte lacuri de origine diversă, cum ar fi:</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curi carstice;</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curi de baraj natural;</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curi în regiuni vulcanice;</a:t>
            </a:r>
            <a:endParaRPr b="0" lang="en-US" sz="1200" spc="-1" strike="noStrike">
              <a:solidFill>
                <a:srgbClr val="000000"/>
              </a:solidFill>
              <a:latin typeface="Calibri"/>
            </a:endParaRPr>
          </a:p>
          <a:p>
            <a:pPr lvl="3" marL="1752480" indent="-38088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mane (fluviale sau maritime) etc.</a:t>
            </a:r>
            <a:endParaRPr b="0" lang="en-US" sz="1200" spc="-1" strike="noStrike">
              <a:solidFill>
                <a:srgbClr val="000000"/>
              </a:solidFill>
              <a:latin typeface="Calibri"/>
            </a:endParaRPr>
          </a:p>
        </p:txBody>
      </p:sp>
      <p:sp>
        <p:nvSpPr>
          <p:cNvPr id="48" name="Rectangle 1"/>
          <p:cNvSpPr/>
          <p:nvPr/>
        </p:nvSpPr>
        <p:spPr>
          <a:xfrm>
            <a:off x="250920" y="313560"/>
            <a:ext cx="835344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Guest</cp:lastModifiedBy>
  <dcterms:modified xsi:type="dcterms:W3CDTF">2012-03-08T12:46:30Z</dcterms:modified>
  <cp:revision>2</cp:revision>
  <dc:subject>CNEE</dc:subject>
  <dc:title>CNEE</dc:title>
</cp:coreProperties>
</file>